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E15-562E-4233-B9AB-4570FA22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0DE-5225-47E3-89BD-3ADDDFD2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79D-460E-4082-ABBC-D06A3BB0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CEB-2E55-46C5-ACDB-8FE3A675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600-FA34-4494-AE5B-EDAA600B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F71-1669-494D-B882-32C57358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C81-DBC8-4E9C-A8C9-DD0697A8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868-2F23-47BC-9489-047CAA7F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7C0-9066-437E-AB46-817C27AB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CB7-8C2C-486C-A88F-E6067625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A63-5A5F-4989-A88E-65A2BFFF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452-8FDD-4B74-A517-91DEED57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1718-A794-4CAC-A7DB-F91D295C5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Faith and Confidenc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by William C. Bea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ulitzer Prize Photo, 19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652560" cy="5029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20:33:31Z</dcterms:created>
  <dc:creator>CHCCS</dc:creator>
  <dc:description/>
  <dc:language>en-US</dc:language>
  <cp:lastModifiedBy>CHCCS</cp:lastModifiedBy>
  <dcterms:modified xsi:type="dcterms:W3CDTF">2008-04-23T20:37:23Z</dcterms:modified>
  <cp:revision>1</cp:revision>
  <dc:subject/>
  <dc:title>Faith and Confidence by William C. Beall Pulitzer Prize Photo, 1958</dc:title>
</cp:coreProperties>
</file>